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8AB-4879-4D07-BF03-BC50B415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52C-A209-4407-9EC0-2F051B38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52B-C1D9-4746-B046-0ED097C1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89D-BB7D-4350-A0A4-B73BB1D9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7C8-D68F-4803-A2B7-376BE81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48C-46BB-47D1-97AB-F15746A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EF9-4D74-4407-8361-89787A13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28E-B1AD-41A0-B0B5-4E63D997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E00-F1EA-4B26-BF7C-1C7FFB87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BAC-8BCC-43A2-870B-F84626D1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D71-D6D4-4CB6-BB70-4A02EDB5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242-AFFD-4B83-A8D8-D24B39F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2697-4529-49CD-A574-4C2009A41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aten1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aten2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aten3" descr=""/>
          <p:cNvPicPr/>
          <p:nvPr/>
        </p:nvPicPr>
        <p:blipFill>
          <a:blip r:embed="rId1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58:02Z</dcterms:created>
  <dc:creator>A. Witten</dc:creator>
  <dc:description/>
  <dc:language>en-US</dc:language>
  <cp:lastModifiedBy>A. Witten</cp:lastModifiedBy>
  <dcterms:modified xsi:type="dcterms:W3CDTF">2005-02-01T19:58:11Z</dcterms:modified>
  <cp:revision>1</cp:revision>
  <dc:subject/>
  <dc:title>PowerPoint-Präsentation</dc:title>
</cp:coreProperties>
</file>